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9411-67D7-42A2-9658-07F44EDA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D8A-54BC-4A2D-86B5-5070F980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1C2-AAE2-46FC-B79A-A59AB9AD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B941-58F2-4F13-803A-87EBED00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972-DA21-4D42-8395-8527BBD8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68D-44D6-460A-B786-3C4EE7B4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4CB3-63AB-441C-A6C4-472A37ED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4DD-EDFF-4324-95CE-3BE505F7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7CBE-07CD-4030-9614-C633E861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181-3659-4D6B-B74E-3C29A7A4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9D1-C084-490B-BD07-CAFB2C78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71BF-A228-41C3-BAC1-BE21388D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462D-049E-4D3F-B9A3-028906A6F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Arial"/>
                <a:cs typeface="????Boutros Rokaa"/>
              </a:rPr>
              <a:t>طلبة الميلاد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ألكلمة قد صار جسداً يا مؤمن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بنصفِ الليل اتّلد ربُّ السماوي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جُرمُ آدم قد مُحي بدمع الطفلِ السخ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داود قد تهلّل بوارثه الأم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هيرودوس واليهود ما لكم مضطرب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وافى المجوسُ إليه وقدّموا له القراب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هتَفَتِ الملائكة بالرعاة الراقد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حُبُّ الربِّ بادٍ نحو السُّفليّ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طوبى لنا فإننا فُقنا العُلْويّ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يا مريم حظيتِ بالأجمل في البن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كفاك به فخراً يا فخرَ العالم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لمغارة بيت لحم قد أتى بالساجد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ميخا قد تنبّا ولاحَ الحقُّ المب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نجم يعقوب قد بدا وأنار المظلم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سرُّ الخلاص ابتدا وتمَّ قولُ النّبيّ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عجيب يا إلهنا يهتفون منذهل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ي المذود اضّجعت كأحقر المساك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صرتَ إنساناً لكي تفدي البشري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قدِّموا له المجد يا جميع المولود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رتِّلوا بالتهليل وحسن نظم التلح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شمسُنا قد أشرقت فلنهتف قائل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تمَّ الخلاصُ والوعد فنشكره كل ح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2:12:59Z</dcterms:created>
  <dc:creator>Charbel Azar</dc:creator>
  <dc:description/>
  <dc:language>en-US</dc:language>
  <cp:lastModifiedBy>Charbel Azar</cp:lastModifiedBy>
  <dcterms:modified xsi:type="dcterms:W3CDTF">2002-12-16T12:28:13Z</dcterms:modified>
  <cp:revision>3</cp:revision>
  <dc:subject/>
  <dc:title>Slide 1</dc:title>
</cp:coreProperties>
</file>